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EDED-68B6-4209-BA10-18CE0519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F6B3-678D-4B2E-892E-B259E6123A4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D31-FD37-46A2-B87D-520DCF1C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F77-5A58-43F1-B2CA-642FC4F3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1DC-1AC5-48B0-93F4-AE137859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5D6-DBC7-477C-8A28-4B51D5FD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E9E9-DF7F-4950-993B-6E16C1F0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1680-7E0D-4BFA-ACF5-20394139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8D7E-6745-48B7-9414-9E17F0B4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D3F3-3237-4AE8-A555-B3ADD506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F8BD-420C-4958-BEE2-B721E8B1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1985-0A91-4C69-883C-23044A50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DA91-950C-4462-B76F-FD981CF0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6E6-8241-4F0C-ADFF-DACD3BED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98A8-9D35-4C2E-8F82-EA843E01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2D37-BC80-43C0-8DE9-77D04132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78E8-9EBA-4F6E-AD5B-F9A36806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57E3-20BD-4583-B592-71FACCFE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F2C3-BF74-4F78-A9E3-6730AF51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845-0776-4754-96AC-2F705931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2FF-2074-45A2-AB01-AEA5948E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EB3-576F-459D-B296-26D7834C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64A-3915-4D6A-8126-3F2C37C4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E48-8879-447F-AE29-1B91D029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C6B-9E8E-48DC-9D35-FE42FC79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E3E-85D7-407D-993E-A2C7C8D1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FA0F-0667-465D-A150-3C785E9F555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1CC5-C638-4EBA-A914-5E1B026AE7C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of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Charles  Padgett</cp:lastModifiedBy>
  <dcterms:modified xsi:type="dcterms:W3CDTF">2012-07-24T13:44:42Z</dcterms:modified>
  <cp:revision>65</cp:revision>
  <dc:subject/>
  <dc:title>QIES Year in Review - 2005</dc:title>
</cp:coreProperties>
</file>